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5FE-C120-4012-9E09-05B0BF76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806-273A-4E9E-880B-2C9E18F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608-6486-444F-B32F-994354E5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DDC-9F68-4579-A728-0DACBA6A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5D5B-E880-4A1C-9F31-8DD4F596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0AF6-A5D8-49B3-9AD2-0402837C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CD01-7DA4-49F3-9F7D-A3FBE3C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F14-3459-425B-86F6-F7574A9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7D6A-C784-480D-B474-9757FFC1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FDA7-E9FF-4B04-A087-CDB1599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C25-2135-4C0F-BA06-4D691FA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97D-03FD-46E9-A83D-7294F123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8C67-5233-4419-9D56-C7F7285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C9E4-E73C-4BAF-B0A9-69D3727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4C4-8E53-4885-8B0B-69E8403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F3F-58E0-4937-B684-09E2C48C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5AB-C723-4FE3-963C-C3DDD758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EA0-40D5-41B3-8C75-FB88BD16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55D-BC80-498A-BB85-9C3DE50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1BF-2D33-460A-896E-C786987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85D-B169-4541-A29C-1C8DFE20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CB0-4157-4D60-9ED6-B962F8C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C5F-88E4-4E1A-8247-F6859D6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440-464D-4D2E-8DDA-B4E3EBA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5B1-CA9A-4978-B796-336394039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EE3-A3A5-4D6C-BB63-E1876EB48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view of the United Kingdo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5A (Two Class Sess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v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David,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Jonatha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, Saul’s Son, Admir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ginning of Saul’s Jealousy and Hatred Towar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5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Marriage to Saul’s Daughter, Mich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17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Afraid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Attempts on David’s Lif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Begged Saul for David’s Lif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1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l Helped David Escape to Samu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8-24; Psa. 5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Warned and Protect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0:1-3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and David Had to Separ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41-4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Ahimelech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, the Priest, Gave Both Food and Arms to David in No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1:1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ward, David Fled to G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1:10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id in the Cave of Adullam, Then Went to Moa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2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Killed Ahimelech and the Pries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2: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Helped the City of Keil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Fled to the Wilderness of Zip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6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d Jonathan Met for the Last Tim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5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Ziph Betray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6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pared Saul’s Life in the Wilderness of En-gedi – Cut Off Part of His Clot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4:1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Plead His Innocence to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4:9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sked Nabal For Help But He Refu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2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gail, Nabal’s wife, Begged For Merc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18-3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bal Died a Little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Married Abigail, and Ahino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39-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pared Saul’s Life a Second Time in the Wilderness of Zi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ook His Sword and Water Bo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6:1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Lives Among The Philistin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Lived Among the Philistines 1 Year and 4 Mont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7:1-1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hish Gave David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y of Zikl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, Achish Asked David to Join His Army – He Thought Saul Was David’s Ene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Lives Among The Philistin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Gathered Against Saul an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3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Consulted the Witch of En-dor and Talked to Samuel’s Spir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Distrusted David, So Achish Told David to Go Back Ho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 Sam. 29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gainst The Amalekit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ound His City Destroyed By the Amalekit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1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Amalekites and Recovered Their Families and Possess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ent the Extra Spoils to the Elders in Jud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31-3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Last Battl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Defeated Israel at Gilbo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of Saul’s Sons Kil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Wounded By an Arrow and Fell on His Swor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3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Jabesh-gilead brought the Bodies of Saul and His Sons to Bury Th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8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muel - The Last Judg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Wa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ders of the People Did Not Like His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aid, “Give us a king like the nations around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rned - You will work for the king, your sons and daughters will serve them, they will have an army, and you will pay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David’s Grief for Saul and Jonatha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ath of Saul and Jonathan Reported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Grie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alekite Messenger Sl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3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Song of Lament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7-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 - The First Kin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the Tribe of Benjamin , Son of K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, Tall, Good Looking, Hu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and the Lost Anim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and Saul Me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1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Anointed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8-10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s of the Divine Confirmation of Saul as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0:2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 - Saul’s First Victory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Selection of Saul by Lot as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0:1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 Went Home to Continue Farm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0:26-2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First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ctory Over Amm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1:1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Renew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1:12-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’s Farewell Address to the Peop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2:1-2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Failures and Its Result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Threatene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3:1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Impatience Caused Him to Make Ill-advised  Sacrif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3:8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Saul’s First Mistake - a Sign of Pride and Self-impor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Victory Over the Philist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4:1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Failures and Its Result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Rash Curse and Its Consequen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24-4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Mistake – Saul ordered the army not to eat until the Philistines were defeated; resulted in a death sentence for Jona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Battles and Succes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46-5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od’s Rejection of Sau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Sends Saul to Destroy the Amalekites, and All Their Substa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Mistake – He allowed the king of the Amalekites to live and took the best of the animals and goods in direct disobedience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Disobedience and Its Penal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6-3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Sau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, Youngest Son of Jesse, Anointed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, a good looking Shepherd from Bethle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of God Departs from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4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Plays the Harp for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Goliath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iath of Gath, a Philistine, Made a Proposition to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Delivered Supplies to the Front L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12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Offered to Fight Goli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23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Victo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41-5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01:24:31Z</dcterms:created>
  <dc:creator>Don Vines</dc:creator>
  <dc:description/>
  <dc:language>en-US</dc:language>
  <cp:lastModifiedBy>Frank D Vines</cp:lastModifiedBy>
  <dcterms:modified xsi:type="dcterms:W3CDTF">2005-08-24T21:20:49Z</dcterms:modified>
  <cp:revision>30</cp:revision>
  <dc:subject/>
  <dc:title>No Slide Title</dc:title>
</cp:coreProperties>
</file>